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F6CA-FE90-4184-A7B9-752F36DF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F684-4891-47B9-84FD-4B0B50F0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F8D0-03AF-4D8C-B0CD-F95C47656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7007-D1FB-4E0D-8917-FD358F37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6F76-8574-49FE-B6FD-7889D24A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1B88-1D05-4B89-AF8B-CC5999DB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3E06-7284-47DF-84CA-FD5BA057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FECC-932F-4C31-929C-1F1AC71A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29F7-8AFC-462F-919D-0D097540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A457-5BC4-4B62-961F-02F74AEA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501F-DB14-4116-8EDB-189888F3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39F5-335F-41B4-8685-CF8B511A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8BFC-528F-48E6-9ABF-A029F70B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0A86-E6A5-4415-984C-71BD604B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24FF-85FE-40E7-B1D0-D3B8452E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802C-D8DF-4937-8E30-F170E3AA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4D4C-91C7-471C-ACC8-041DEA594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6012-5B72-4904-940C-0A4D3118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D6C3-D956-4AD4-9A2B-74B8D7A6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A9B5-2FBF-44BC-98BC-C2B8F8FB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3312-74D2-4A4E-A15D-E2B6FAEA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FF97-DB44-4491-B3B0-0E3081DE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D2C3-7AA2-4B68-B9DC-824FB552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A687-022F-4D28-B19D-4982DB1F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2028-2D03-45B4-9BF3-9A104748D7A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6EBA-312E-4081-94BD-5890212E660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Метеора – монастыри, парящие в воздухе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ыполнил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ученица 9 класс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ОУ «Русская гимназия»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еменчина Елизавет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051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4048200" cy="4191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 настоящее время монастырский комплекс Метеора включает в себя 6 действующих монастыре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Почему  всегда люди стремились подняться в воздух?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отому что их манила жажда открыти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отому что хотели пойти наперекор судьбе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Стремились утвердить себя в мире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Искали уединени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Хотели уйти подальше от мир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Что такое Метеора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Комплекс православных монастырей 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Метеоры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в Фессалии (центральная часть Греции) – одна из главных достопримечательностей страны. Обители иноков построены на самых вершинах высоких отвесных скал. Этим и объясняется название комплекса – монастыри Метеоры, которое в переводе с греческого означает “парящие в воздухе”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Для чего и кем они создавались?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80880" y="1219320"/>
            <a:ext cx="4267440" cy="5410080"/>
            <a:chOff x="380880" y="1219320"/>
            <a:chExt cx="4267440" cy="541008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380880" y="1219320"/>
              <a:ext cx="426744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 txBox="1"/>
            <p:nvPr/>
          </p:nvSpPr>
          <p:spPr>
            <a:xfrm>
              <a:off x="380880" y="1219320"/>
              <a:ext cx="4267440" cy="541008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XI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еке на неприступные скалы, спасаясь от мирской суеты и набегов захватчиков, стали собираться монахи, чтобы служить Богу здесь, между небом и землей. Первым из них считается некий Варнава, построивший здесь небольшой скит Святого Духа. Постепенно скалы все больше обживались: подвижники селились в пещерах и расщелинах, проводя дни в созерцании и молитвах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Монашеское государст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течение XV–XVI веков Великий Метеор рос и креп, а на соседних скалах появлялись все новые и новые монастыри. Так образовалось уникальное «монашеское государство» со своим особым укладом жизни. Всего было построено двадцать четрые «парящих» монастыря. В каждом из них помимо монашеских келий, церквей и часовен были общая трапезная, кухня, погреб для хранения продуктов, цистерны для хранения воды (монахи собирали дождевую воду), костницы (оссуарии), а в некоторых монастырях ещё и библиотеки с богатым собранием рукописных и печатных книг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609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Великий Метеор был почти неприступен. Попасть в него можно было лишь по длинной лестнице, которую монахи убирали при малейшей угроз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Со временем вместо лестниц стали использовать специальное подъемное устройство: посетитель садился в сетку, привязанную к длинному канату, а монахи наверху крутили колесо, поднимая гостя в монастырь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648320" y="457200"/>
            <a:ext cx="4267080" cy="6095880"/>
            <a:chOff x="4648320" y="457200"/>
            <a:chExt cx="4267080" cy="609588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4648320" y="457200"/>
              <a:ext cx="4267080" cy="609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 txBox="1"/>
            <p:nvPr/>
          </p:nvSpPr>
          <p:spPr>
            <a:xfrm>
              <a:off x="4648320" y="457200"/>
              <a:ext cx="4267080" cy="609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eec85e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Монашеская аскез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В монастыре уединение и молчание являются законом. На этих неплодородных скалистых горах, которые стали дворцами для тысячей отшельников – аскетов, научились православные монахи быть мудрыми в мыслях и покорными в самосознани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Внутри их живет другой мир, свободный от насилия сил природы и не связанный со временем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Какое значение несут в себе эти памятники культуры в настоящее время?</a:t>
            </a:r>
            <a:br>
              <a:rPr sz="40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1988 году монастыри были включены в список объектов всемирного наследия. Метеорские скалы — геологический феномен. Они достигают в высоту 600 метров над уровнем моря и являются редким геологическим явлением. Они образовались более 60 миллионов лет назад и являлись каменистым дном доисторического моря, находившегося на месте равнины.[1] В результате воздействия воды, ветра и перепадов температур получились массивные, как бы зависшие в воздухе каменные столб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Художественное наслед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57200" y="1600200"/>
            <a:ext cx="4038480" cy="4648320"/>
            <a:chOff x="457200" y="1600200"/>
            <a:chExt cx="4038480" cy="464832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3848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 txBox="1"/>
            <p:nvPr/>
          </p:nvSpPr>
          <p:spPr>
            <a:xfrm>
              <a:off x="457200" y="1600200"/>
              <a:ext cx="4038480" cy="464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eec85e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громное наследие представляют собой и сами монастыри, украшенные древними фресками в стиле Критской иконописной школы, имеющие ризницы и богатые библиотек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онастырь Тераморф Метеора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XVI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ек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01-12-31T21:36:5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